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3.pct" ContentType="image/x-pict"/>
  <Override PartName="/ppt/media/image10.pct" ContentType="image/x-pict"/>
  <Override PartName="/ppt/media/image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1BA8-AC5A-46CE-A78C-B40C3671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Steinhart Rachel</cp:lastModifiedBy>
  <cp:lastPrinted>2009-10-01T01:13:32Z</cp:lastPrinted>
  <dcterms:modified xsi:type="dcterms:W3CDTF">2015-09-22T23:52:45Z</dcterms:modified>
  <cp:revision>71</cp:revision>
  <dc:subject/>
  <dc:title>Evaluation of Chest Pain</dc:title>
</cp:coreProperties>
</file>